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58680" cy="124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AF1-4E8C-4114-BB80-C9CF09E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EA6-27EF-4E43-B5C4-BA37F043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26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781-E77D-4314-8FA6-97A21B62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206-357F-439C-8DDC-93A1702A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429-64C5-4A37-8672-EB4E013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84B-3F44-4BE8-866F-6790010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F06-191B-43A9-9B1A-40EC4EE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FF0-BFC5-4F9F-872B-659C3E3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8200" cy="51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9D2-372A-4C97-B722-354BFDFF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68F-D6AD-41C4-BA84-8BFFCA9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26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483-A479-4C86-BF18-B9BA917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3CD-A038-4BB1-8BF0-AA31A10B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82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0923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54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0923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17C9-1A38-44D5-9324-674527BE59B7}" type="slidenum">
              <a:rPr b="0" lang="cs-CZ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cs-CZ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cs-CZ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Times New Roman"/>
              </a:rPr>
              <a:t>Semin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9900"/>
                </a:solidFill>
                <a:latin typeface="Arial"/>
              </a:rPr>
              <a:t>TrainController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rze 5.8, 7, 8, 9 Gold, 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11048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600" y="379440"/>
          <a:ext cx="8270280" cy="2806200"/>
        </p:xfrm>
        <a:graphic>
          <a:graphicData uri="http://schemas.openxmlformats.org/drawingml/2006/table">
            <a:tbl>
              <a:tblPr/>
              <a:tblGrid>
                <a:gridCol w="8270280"/>
              </a:tblGrid>
              <a:tr h="2891160">
                <a:tc>
                  <a:txBody>
                    <a:bodyPr lIns="90000" rIns="90000" tIns="258804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51640" y="601560"/>
            <a:ext cx="3313080" cy="268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71640" y="3357720"/>
            <a:ext cx="6193080" cy="1120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8000" y="4535640"/>
            <a:ext cx="8856720" cy="218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7600" y="1187280"/>
            <a:ext cx="5396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4.      </a:t>
            </a:r>
            <a:r>
              <a:rPr b="0" lang="pl-PL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Bloky, kontakty, opto, 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pl-PL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Fyzické umístění,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46280" y="4098960"/>
          <a:ext cx="8259480" cy="3488760"/>
        </p:xfrm>
        <a:graphic>
          <a:graphicData uri="http://schemas.openxmlformats.org/drawingml/2006/table">
            <a:tbl>
              <a:tblPr/>
              <a:tblGrid>
                <a:gridCol w="8259480"/>
              </a:tblGrid>
              <a:tr h="1690560">
                <a:tc>
                  <a:txBody>
                    <a:bodyPr lIns="90000" rIns="90000" tIns="138744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1000">
                <a:tc>
                  <a:txBody>
                    <a:bodyPr lIns="90000" rIns="90000" tIns="166788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863640"/>
            <a:ext cx="8351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12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2.5.      Indik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6666ff"/>
                </a:solidFill>
                <a:latin typeface="Times New Roman"/>
                <a:ea typeface="Microsoft YaHei"/>
              </a:rPr>
              <a:t>Kontakt, Virtuální kontakt, Flagman- Rozd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2492280"/>
          <a:ext cx="8864280" cy="3346200"/>
        </p:xfrm>
        <a:graphic>
          <a:graphicData uri="http://schemas.openxmlformats.org/drawingml/2006/table">
            <a:tbl>
              <a:tblPr/>
              <a:tblGrid>
                <a:gridCol w="576360"/>
                <a:gridCol w="1584360"/>
                <a:gridCol w="1009800"/>
                <a:gridCol w="1008360"/>
                <a:gridCol w="4685400"/>
              </a:tblGrid>
              <a:tr h="578160">
                <a:tc>
                  <a:txBody>
                    <a:bodyPr lIns="90000" rIns="90000" tIns="260280" bIns="46800" anchor="b">
                      <a:noAutofit/>
                    </a:bodyPr>
                    <a:p>
                      <a:pPr marL="36360">
                        <a:lnSpc>
                          <a:spcPct val="80000"/>
                        </a:lnSpc>
                        <a:tabLst>
                          <a:tab algn="l" pos="0"/>
                          <a:tab algn="l" pos="36360"/>
                          <a:tab algn="l" pos="484200"/>
                          <a:tab algn="l" pos="933480"/>
                          <a:tab algn="l" pos="1382760"/>
                          <a:tab algn="l" pos="1832040"/>
                          <a:tab algn="l" pos="2281320"/>
                          <a:tab algn="l" pos="2730600"/>
                          <a:tab algn="l" pos="3179880"/>
                          <a:tab algn="l" pos="3629160"/>
                          <a:tab algn="l" pos="4078440"/>
                          <a:tab algn="l" pos="4527720"/>
                          <a:tab algn="l" pos="4976640"/>
                          <a:tab algn="l" pos="5425920"/>
                          <a:tab algn="l" pos="5875200"/>
                          <a:tab algn="l" pos="6324480"/>
                          <a:tab algn="l" pos="6773760"/>
                          <a:tab algn="l" pos="7223040"/>
                          <a:tab algn="l" pos="7672320"/>
                          <a:tab algn="l" pos="8121600"/>
                          <a:tab algn="l" pos="8570880"/>
                          <a:tab algn="l" pos="90201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b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b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š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b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mínky (Condi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b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znám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 algn="ctr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zic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zický kontakt, tvořený různými zařízeními od jazýčkového relé po optickou bránu a umístěný na určité místo kolejiště. Jedním z nejrozšířenějších je detektor (snímač) obsazení (DO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000"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 algn="ctr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ální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 (Virtu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, V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ha od fyzického kontaktu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ový prvek, podobný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u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le ovládaný (reagující) třeba až v určité vzdálenosti od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u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Obsahuje také záložk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mínek (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160"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 algn="ctr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g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0280" bIns="46800" anchor="ctr">
                      <a:noAutofit/>
                    </a:bodyPr>
                    <a:p>
                      <a:pPr marL="71280">
                        <a:lnSpc>
                          <a:spcPct val="80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Vyhodnocovací prvek, ovládaný, spo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uštěný prvky kolejiště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 TC a jejich kombinacemi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 spouštějící jednu i více akcí, činností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s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, a to ještě třeba za určitých podmínek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7280" y="3311640"/>
            <a:ext cx="214200" cy="21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4176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7280" y="5184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87280" y="3311640"/>
            <a:ext cx="214200" cy="21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498920" y="33512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87280" y="4176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87280" y="5184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252360" y="3314880"/>
            <a:ext cx="21420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347760" y="53229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352440" y="3483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351000" y="4248000"/>
            <a:ext cx="15228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03200" y="3506760"/>
          <a:ext cx="229680" cy="2962080"/>
        </p:xfrm>
        <a:graphic>
          <a:graphicData uri="http://schemas.openxmlformats.org/drawingml/2006/table">
            <a:tbl>
              <a:tblPr/>
              <a:tblGrid>
                <a:gridCol w="229680"/>
              </a:tblGrid>
              <a:tr h="3046680">
                <a:tc>
                  <a:txBody>
                    <a:bodyPr lIns="90000" rIns="90000" tIns="27435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30568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952560" cy="43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386080" y="3510000"/>
            <a:ext cx="4309920" cy="3098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16000" y="839880"/>
            <a:ext cx="496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2.6.     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3.   Pomocn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200" y="3506760"/>
          <a:ext cx="229680" cy="2962080"/>
        </p:xfrm>
        <a:graphic>
          <a:graphicData uri="http://schemas.openxmlformats.org/drawingml/2006/table">
            <a:tbl>
              <a:tblPr/>
              <a:tblGrid>
                <a:gridCol w="229680"/>
              </a:tblGrid>
              <a:tr h="3046680">
                <a:tc>
                  <a:txBody>
                    <a:bodyPr lIns="90000" rIns="90000" tIns="27435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6000" y="839880"/>
            <a:ext cx="496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.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w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ff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Pomocné prvky (Messages / Zpráv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5240" y="1557360"/>
            <a:ext cx="6999120" cy="49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omocné prvky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Explorer / Průzkumní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54080" y="1438200"/>
            <a:ext cx="716112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6000" y="21564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 Pomocné prvky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ffic Control / Řízení provozu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 Pomocné prvky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spector / Inspek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0000" y="2138400"/>
            <a:ext cx="653256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4.   </a:t>
            </a:r>
            <a:r>
              <a:rPr b="0" lang="cs-CZ" sz="3200" spc="-1" strike="noStrike">
                <a:solidFill>
                  <a:srgbClr val="6666ff"/>
                </a:solidFill>
                <a:latin typeface="Times New Roman"/>
              </a:rPr>
              <a:t>Kalib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41720" y="349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692280"/>
            <a:ext cx="8234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0120" bIns="46800" anchor="b">
            <a:noAutofit/>
          </a:bodyPr>
          <a:p>
            <a:pPr marL="492120" indent="-492120">
              <a:lnSpc>
                <a:spcPct val="84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kodekodé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39480">
              <a:lnSpc>
                <a:spcPct val="80000"/>
              </a:lnSpc>
              <a:tabLst>
                <a:tab algn="l" pos="0"/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Vmin,stř,max, CV3,4 - zrychlení), Speed Table, (map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lnSpc>
                <a:spcPct val="8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říprava (koleje, změření úseku, lok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lnSpc>
                <a:spcPct val="8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ah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lnSpc>
                <a:spcPct val="8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oky, orientace loko, Length, Run-Out,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lnSpc>
                <a:spcPct val="8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astní 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5680" y="3154320"/>
            <a:ext cx="4465800" cy="3289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18080" y="3154320"/>
            <a:ext cx="44654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5.   </a:t>
            </a:r>
            <a:r>
              <a:rPr b="0" lang="cs-CZ" sz="3200" spc="-1" strike="noStrike">
                <a:solidFill>
                  <a:srgbClr val="6666ff"/>
                </a:solidFill>
                <a:latin typeface="Times New Roman"/>
              </a:rPr>
              <a:t>Auto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67640" y="3384720"/>
          <a:ext cx="5208120" cy="15315840"/>
        </p:xfrm>
        <a:graphic>
          <a:graphicData uri="http://schemas.openxmlformats.org/drawingml/2006/table">
            <a:tbl>
              <a:tblPr/>
              <a:tblGrid>
                <a:gridCol w="5208120"/>
              </a:tblGrid>
              <a:tr h="2770200">
                <a:tc>
                  <a:txBody>
                    <a:bodyPr lIns="90000" rIns="90000" tIns="2467080" bIns="46800" anchor="b">
                      <a:noAutofit/>
                    </a:bodyPr>
                    <a:p>
                      <a:pPr>
                        <a:lnSpc>
                          <a:spcPct val="3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2480">
                <a:tc>
                  <a:txBody>
                    <a:bodyPr lIns="90000" rIns="90000" tIns="18993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78000" y="3600360"/>
          <a:ext cx="2296440" cy="3978000"/>
        </p:xfrm>
        <a:graphic>
          <a:graphicData uri="http://schemas.openxmlformats.org/drawingml/2006/table">
            <a:tbl>
              <a:tblPr/>
              <a:tblGrid>
                <a:gridCol w="2296440"/>
              </a:tblGrid>
              <a:tr h="2219760">
                <a:tc>
                  <a:txBody>
                    <a:bodyPr lIns="90000" rIns="90000" tIns="1835640" bIns="46800" anchor="b">
                      <a:noAutofit/>
                    </a:bodyPr>
                    <a:p>
                      <a:pPr marL="343080" indent="-312840">
                        <a:lnSpc>
                          <a:spcPct val="5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1000">
                <a:tc>
                  <a:txBody>
                    <a:bodyPr lIns="90000" rIns="90000" tIns="166788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20840" y="1239840"/>
            <a:ext cx="85676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1.      Možnosti automatického provo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-1983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vládací panely   x   Dispečer,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2.      Dispečer, Pl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-1983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iving mode – způsoby manuálního poloautomatického ovlád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3.      Sekce plánu - Blok, Cesta (další okno vlastnos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4.      Zabezpečení, ohlas od výhy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5.      Kritická sekce, b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12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6.      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5.7.      Simulace, ladění ( x Resource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6.   Tipy a 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41720" y="345600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3640" y="1584360"/>
            <a:ext cx="3639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6.2.    Variabilní zas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3640" y="1127160"/>
            <a:ext cx="287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6.1.    Fiktivní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91280" y="4392720"/>
          <a:ext cx="3979440" cy="3347640"/>
        </p:xfrm>
        <a:graphic>
          <a:graphicData uri="http://schemas.openxmlformats.org/drawingml/2006/table">
            <a:tbl>
              <a:tblPr/>
              <a:tblGrid>
                <a:gridCol w="3979440"/>
              </a:tblGrid>
              <a:tr h="3433680">
                <a:tc>
                  <a:txBody>
                    <a:bodyPr lIns="90000" rIns="90000" tIns="31305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31640" y="1368360"/>
            <a:ext cx="835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01680">
              <a:lnSpc>
                <a:spcPct val="27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.   Obecný úvod ke šk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7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7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7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ganizace, přestávky, občerst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7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jištění znalostí a situace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Účel (oboustranné předání info, kolegové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44440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Školení uživatelů, Freiwald x prodejci, Překlad manu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i="1" lang="cs-C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nuál, kontextový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   Závěr, dot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24360" y="2346480"/>
            <a:ext cx="1104840" cy="1133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421956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cs-CZ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cs-CZ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.2.  Digitální komponenty, základní zapojení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p.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70640" cy="4560480"/>
        </p:xfrm>
        <a:graphic>
          <a:graphicData uri="http://schemas.openxmlformats.org/drawingml/2006/table">
            <a:tbl>
              <a:tblPr/>
              <a:tblGrid>
                <a:gridCol w="8270640"/>
              </a:tblGrid>
              <a:tr h="4560480">
                <a:tc>
                  <a:txBody>
                    <a:bodyPr lIns="90000" rIns="90000" tIns="245628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89120" y="85104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   Nová stavba nebo přechod z analogu na dig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000"/>
            <a:ext cx="8234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0120" bIns="46800" anchor="b">
            <a:noAutofit/>
          </a:bodyPr>
          <a:p>
            <a:pPr marL="343080" indent="-301680" algn="ctr">
              <a:lnSpc>
                <a:spcPct val="84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Částečné digi, jen loko, jen příslušenství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cs-CZ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cs-CZ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cs-CZ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cs-CZ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br>
              <a:rPr sz="4400"/>
            </a:br>
            <a:br>
              <a:rPr sz="4400"/>
            </a:br>
            <a:r>
              <a:rPr b="0" lang="cs-CZ" sz="6000" spc="-1" strike="noStrike">
                <a:solidFill>
                  <a:srgbClr val="009900"/>
                </a:solidFill>
                <a:latin typeface="Arial"/>
              </a:rPr>
              <a:t>TrainController™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erze 5.8, 7, 8, 9 Gold, Silver</a:t>
            </a:r>
            <a:br>
              <a:rPr sz="36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    RailCO 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7640" y="1144440"/>
          <a:ext cx="8291160" cy="4446360"/>
        </p:xfrm>
        <a:graphic>
          <a:graphicData uri="http://schemas.openxmlformats.org/drawingml/2006/table">
            <a:tbl>
              <a:tblPr/>
              <a:tblGrid>
                <a:gridCol w="8291160"/>
              </a:tblGrid>
              <a:tr h="4446360">
                <a:tc>
                  <a:txBody>
                    <a:bodyPr lIns="90000" rIns="90000" tIns="31305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87280" y="1224000"/>
            <a:ext cx="863928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   Obecný popis, možnosti (módy automatiky), ve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</a:t>
            </a:r>
            <a:r>
              <a:rPr b="0" i="1" lang="cs-CZ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ystémy Lenz, Digitrax atd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</a:t>
            </a:r>
            <a:r>
              <a:rPr b="0" i="1" lang="cs-CZ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igi i analo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8800" y="3240000"/>
          <a:ext cx="1422000" cy="6693840"/>
        </p:xfrm>
        <a:graphic>
          <a:graphicData uri="http://schemas.openxmlformats.org/drawingml/2006/table">
            <a:tbl>
              <a:tblPr/>
              <a:tblGrid>
                <a:gridCol w="1422000"/>
              </a:tblGrid>
              <a:tr h="3433680">
                <a:tc>
                  <a:txBody>
                    <a:bodyPr lIns="90000" rIns="90000" tIns="31305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3680">
                <a:tc>
                  <a:txBody>
                    <a:bodyPr lIns="90000" rIns="90000" tIns="3130560" bIns="46800" anchor="b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9440" y="3240000"/>
            <a:ext cx="440712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0000" y="3240000"/>
            <a:ext cx="4373640" cy="3144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3280" y="1584360"/>
            <a:ext cx="8280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      Loko, vl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élka, váha, výkon, typ, funkce, paliv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9000" y="3005280"/>
            <a:ext cx="5218200" cy="375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1573200"/>
            <a:ext cx="8470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      Výhy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01680">
              <a:lnSpc>
                <a:spcPct val="2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y výhybek a přestavníků, výhybkové dekodéry, ser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2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360" y="5040360"/>
            <a:ext cx="6353280" cy="1695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02000" y="1584360"/>
            <a:ext cx="4659480" cy="33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360" y="1554120"/>
            <a:ext cx="4103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2.3.   </a:t>
            </a:r>
            <a:r>
              <a:rPr b="0" lang="cs-CZ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Návě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voj- a vícesvětelné, MTB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0:02:01Z</dcterms:created>
  <dc:creator>Martin Pinta</dc:creator>
  <dc:description/>
  <dc:language>en-US</dc:language>
  <cp:lastModifiedBy>Martin Pinta</cp:lastModifiedBy>
  <dcterms:modified xsi:type="dcterms:W3CDTF">2018-10-31T09:55:43Z</dcterms:modified>
  <cp:revision>115</cp:revision>
  <dc:subject/>
  <dc:title>RAILROAD &amp; CO.® </dc:title>
</cp:coreProperties>
</file>