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EEF-4E1B-48A1-B06D-EB4B9C93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2F8-E7AB-432E-B031-35B580A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F7B-E434-440C-985C-7E725CD0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722-C1D2-41C3-A1DE-C70DB7A3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16A-4C9C-473C-A394-75B9603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BC1-BEB5-48F2-BA37-1E6FE6DE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C45-C25B-4790-9CAC-AA51B80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94B-1F5E-4F21-AC44-8AE31FD0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9ED-B3F8-401A-AAE7-DF5556DD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8E7-B170-49D1-91D4-DA85BD1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820-FFCC-4218-987A-D3168C3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991-9D3A-4604-A89F-659F84E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EF28-E64B-4B24-8968-A29EFAE1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okopin.wz.cz/digital/navestidla1.htm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kopin.wz.cz/digital/digital_RailCO_1.htm#BLOK" TargetMode="External"/><Relationship Id="rId2" Type="http://schemas.openxmlformats.org/officeDocument/2006/relationships/hyperlink" Target="http://lokopin.wz.cz/digital/digital_railco_triky.htm#BLOKY" TargetMode="External"/><Relationship Id="rId3" Type="http://schemas.openxmlformats.org/officeDocument/2006/relationships/hyperlink" Target="http://lokopin.wz.cz/digital/digital_railco_triky.htm#RYCHLOST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okopin.wz.cz/digital/digital_RailCO_1.htm#INDIK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kopin.wz.cz/digital/digital_RailCO_2_loko.htm#KALIBRACE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kopin.wz.cz/digital/digital_railco_aut.ht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kopin.wz.cz/digital/digital3.htm#RS" TargetMode="External"/><Relationship Id="rId2" Type="http://schemas.openxmlformats.org/officeDocument/2006/relationships/hyperlink" Target="http://lokopin.wz.cz/digital/digital3.htm#R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Semin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TrainController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ze 5.8, 7, 8, 9 Gold, 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11048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916280"/>
          <a:ext cx="8229600" cy="1004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1.      Loko, vla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b">
                      <a:noAutofit/>
                    </a:bodyPr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élka, váha, výkon, typ, funkce, palivo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36880"/>
            <a:ext cx="4572000" cy="302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838680"/>
            <a:ext cx="4572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916280"/>
          <a:ext cx="8229600" cy="1004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2.      Výhyb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b">
                      <a:noAutofit/>
                    </a:bodyPr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y výhybek a přestavníků, výhybkové dekodéry, serv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3094200"/>
            <a:ext cx="5329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916280"/>
          <a:ext cx="8229600" cy="1004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3.      </a:t>
                      </a: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Návě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voj- a vícesvětelné, MTB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71492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8000" y="5013360"/>
            <a:ext cx="6353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1125360"/>
          <a:ext cx="5184720" cy="91116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4.      </a:t>
                      </a:r>
                      <a:r>
                        <a:rPr b="0" lang="pl-PL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Bloky, kontakty, opto, DO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170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Fyzické umístění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84720" y="1092240"/>
            <a:ext cx="2880000" cy="233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50920" y="2355840"/>
            <a:ext cx="5761080" cy="104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50920" y="4052880"/>
            <a:ext cx="8713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268280"/>
          <a:ext cx="8229600" cy="91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5.      Indiká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1700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Kontakt, Virtuální kontakt, Flagman- Rozd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2492280"/>
          <a:ext cx="8856720" cy="3335400"/>
        </p:xfrm>
        <a:graphic>
          <a:graphicData uri="http://schemas.openxmlformats.org/drawingml/2006/table">
            <a:tbl>
              <a:tblPr/>
              <a:tblGrid>
                <a:gridCol w="576360"/>
                <a:gridCol w="1584000"/>
                <a:gridCol w="1008360"/>
                <a:gridCol w="1008000"/>
                <a:gridCol w="4680000"/>
              </a:tblGrid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š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mínky (Condi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znám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zic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zický kontakt, tvořený různými zařízeními od jazýčkového relé po optickou bránu a umístěný na určité místo kolejiště. Jedním z nejrozšířenějších je detektor (snímač) obsazení (DO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ální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 (Virtu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, V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ha od fyzického kontaktu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ový prvek, podobný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u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le ovládaný (reagující) třeba až v určité vzdálenosti od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aktu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Obsahuje také záložk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mínek (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g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ěco jako relé, ovládané, spo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štěné prvky kolejiště i TC a jejich kombinacemi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 spouštějící jednu i více akcí, činností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s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, a to ještě třeba za určitých podmínek (záložka 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.   Prvky, tvorba,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268280"/>
          <a:ext cx="8229600" cy="91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6.      Ces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305680" cy="98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952560" cy="43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68360" y="3500280"/>
            <a:ext cx="4714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.  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alib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692280"/>
          <a:ext cx="8229600" cy="2220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2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kodekodé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Vmin,stř,max, CV3,4 - zrychlení), Speed Table, (mapování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říprava (koleje, změření úseku, loko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ahová rychl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loky, orientace loko, Length, Run-Out, P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lastní kalibr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353120" cy="347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213000"/>
            <a:ext cx="4392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6.   Tipy a 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981000"/>
          <a:ext cx="8229600" cy="911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6.1.    Fiktivní prv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6.2.    Variabilní za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.  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uto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557360"/>
          <a:ext cx="8229600" cy="3678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1.      Možnosti automatického provoz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vládací panely   x   Dispečer, 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2.      Dispečer, Pl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riving mode – způsoby manuálního poloautomatického ovlád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3.      Sekce plánu - Blok, Cesta (další okno vlastností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4.      Zabezpečení, ohlas od výhyb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5.      Kritická sekce, bl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6.      Time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5.7.      Simulace, ladění ( x Resource simul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   Závěr, dot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417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2346480"/>
            <a:ext cx="1104840" cy="113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421956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075520" cy="2676600"/>
        </p:xfrm>
        <a:graphic>
          <a:graphicData uri="http://schemas.openxmlformats.org/drawingml/2006/table">
            <a:tbl>
              <a:tblPr/>
              <a:tblGrid>
                <a:gridCol w="807552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.   Obecný úvod ke škol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ganizace, přestávky, občerstv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Zjištění znalostí a situace uživa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Účel (oboustranné předání info, kolegové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Školení uživatelů, Freiwald x prodejci, Překlad manu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nuál, kontextový He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.2.  Digitální komponenty, základní zapojení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zp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4038480" cy="4520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1116000"/>
            <a:ext cx="8075520" cy="54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   Nová stavba nebo přechod z analogu na dig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981000"/>
          <a:ext cx="8229600" cy="455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Částečné digi, jen loko, jen příslušenství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IL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A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&amp; C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4400" spc="-1" strike="noStrike" baseline="30000">
                <a:solidFill>
                  <a:srgbClr val="0066ff"/>
                </a:solidFill>
                <a:latin typeface="Arial"/>
              </a:rPr>
              <a:t>®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TrainController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ze 5.8, 7, 8, 9 Gold, 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  RailCO 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637000"/>
          <a:ext cx="8218440" cy="224280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   Obecný popis, možnosti (módy automatiky), ver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Systémy Lenz, Digitrax atd…   Digi i analo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   Pomocné prvky (Hlášky, Dr.Railroad, New Explorer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ffic Control, Inspecto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Pomocné prvky (Hlášk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Pomocné prvky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affic Contro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Pomocné prvky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specto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Pomocné prvky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Explo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60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0:02:01Z</dcterms:created>
  <dc:creator>Martin Pinta</dc:creator>
  <dc:description/>
  <dc:language>en-US</dc:language>
  <cp:lastModifiedBy>Martin NB</cp:lastModifiedBy>
  <dcterms:modified xsi:type="dcterms:W3CDTF">2017-10-11T07:34:57Z</dcterms:modified>
  <cp:revision>71</cp:revision>
  <dc:subject/>
  <dc:title>RAILROAD &amp; CO.® </dc:title>
</cp:coreProperties>
</file>